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1666-B7CF-4ED6-B7C9-DDA9D96A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60C-E8B6-4D4B-B349-9BEF1E49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CA2-CB9F-4FB4-BF35-FEB35FB7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B14-56F1-4DFB-B97D-17C7FCEF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3301-28A8-49A3-8A1A-0C72925D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4FB8-DFA8-4EA2-A3F4-712082F0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4CD-F144-4BA7-A294-FFE490EF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B1A5-3016-4F6B-97EE-2B0A893F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C8D-12C3-493F-B0A3-D50650DE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8D3-6D95-434F-A918-9DA64717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59D7-7B7C-4069-AD8E-58379081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0205-7862-4468-BC8C-EC31216B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875D-33FB-459D-8475-E240BBB91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39 Vst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me, bratia, sestr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elo bratia sest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lízko je už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rných bude s lásk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ít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pasit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staňme, bratia, sest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olá Boží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pred ísť neváh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ristus vedie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ňom je naša nád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íťazstvo i 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iadnym klamným sľubom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c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dajme sa z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elo bratia sest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lízko je už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rných bude s lásk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ít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pasit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staňme, bratia, sestry, láskyplný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skoro sa vrá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dmenu dá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každom čase ties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nám pomôcť v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ancier viery a meč Ducha zbraňou našou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elo bratia sest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lízko je už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rných bude s lásk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ít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pasit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staňme bratia, sestry, v Božej sile vpred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Kristovi je sp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sa dozvie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láve svojej prí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ko Kráľ a 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radostná znieť bude pies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z všetkých sveta strán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3:57:26Z</dcterms:modified>
  <cp:revision>22</cp:revision>
  <dc:subject/>
  <dc:title>Je veľký náš Pán, on slávy je Kráľ Nech do všetkých strán  spev vrúcnych znie chvál.</dc:title>
</cp:coreProperties>
</file>